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4796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2287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79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640" y="46479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2287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2287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4796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464796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464796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640" y="22870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640" y="22870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479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2287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640" y="46479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2287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4796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684360" y="21178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LERGIC REACTIONS CAUSED BY </a:t>
            </a:r>
            <a:r>
              <a:rPr b="1" lang="sr-Latn-RS" sz="4000" spc="-1" strike="noStrike">
                <a:solidFill>
                  <a:srgbClr val="ff0000"/>
                </a:solidFill>
                <a:latin typeface="Arial"/>
              </a:rPr>
              <a:t>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2"/>
          <p:cNvSpPr/>
          <p:nvPr/>
        </p:nvSpPr>
        <p:spPr>
          <a:xfrm>
            <a:off x="1066680" y="35812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RS" sz="2800" spc="-1" strike="noStrike">
                <a:solidFill>
                  <a:srgbClr val="0070c0"/>
                </a:solidFill>
                <a:latin typeface="Arial"/>
              </a:rPr>
              <a:t>Prof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MD PhD Prof Aleksandra Tomic Luc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-936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 VIVO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tes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ype-prix, intradermal, subcutaneous (+test is evidence of the existence of IgE or direct release of inflammatory medi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type - they are rarely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 provocation tests - only in the case of a type I reaction, if the skin test is neg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324000" y="112536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IN VITRO T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80880" y="182880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ype I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Ig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IgE At against major Ag determinants of drugs (RAST test). If RAST test + do not do in vivo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IgE At against minor Ag determinants of drugs (RAST test). Results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90792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IN VITRO T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ype II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At class IgG and IgM (Coobs te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 fixation test (Tr↓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ype III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Immun Com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 biopsy with determination of C3 and 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ype IV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cytok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lymphoblast transformation Ly (determination of sensitized 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838080" y="68580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755640" y="1125360"/>
            <a:ext cx="7245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ROVOCATION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hospital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 - reactions only if necessary, if the RAST test and skin tes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 II and III reactions - are not performed due to permanent tissue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2743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tinuation of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histamines, GK and epinephrine - type I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K- reactions type II, III and 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1066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0880" y="24382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ance of the incriminated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lternative medic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ance of cross-sensitizing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desensitization (only if necess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ALLERGY TO PENICILLIN DRU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33520" y="2362320"/>
            <a:ext cx="8153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core of the molecule is a beta-lactam ring-hapten molec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zylpenicillin-crystalline Penicil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cainebenzylpenicillin-Jugocil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zathine benzylpenicillin – Extenci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mi-synthetic penicillins - Amoxicillin, Ampicil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encillin reactions according to the time of occur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611280" y="2635200"/>
            <a:ext cx="815328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mediate (30 min) - Ig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celerated (2-72h) - Ig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ate (after 72h) - IgG, IgM, IgA, spec 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Reactions according to the pathophysiological mech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2590920"/>
            <a:ext cx="822960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ed by immune mechanisms (specifically At or 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allergic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erebral embolism-Hoigne's s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s not allerg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Allergic reactions mediated by immune mech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2743200"/>
            <a:ext cx="82296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 - anaphylactic shock, bronchospasm, urticaria, angioed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I - hemolytic anemia, thrombocytopenia, agranulocytosis, interstitial nephr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II- serum sicknes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, rash, polyarthriti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anaphylactoid purpura, Lupus like 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V - contact dermatitis, interstitial bronchopneumonia, hepatocellular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09480" y="1066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DVERSE REACTIONS TO MEDIC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68360" y="2287440"/>
            <a:ext cx="8218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DEPENDENT OF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genic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ning of symptoms caused by the underlying disease (viral exanthema in children on antibiotic th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33520" y="23623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 At IgE to the major Ag determinant of penicillin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 At IgE to the minor Ag determinant of penicillin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test with a mixture of major Ag determinants (PPL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test with a mixture of minor Ag determinants (MDM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 provocation tests - only in the case of a type I reaction, if the skin test is nega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80880" y="175248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tion due to cross-reactions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halospor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onam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anesthetic - novoc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dyes - Urs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 provocation tests should only be done if necessary and in patient that have no clinical manifestations of hypersensitivity durin test it must be completed with a full one-time therapeutic dose of the drug. TEST RESULTS VALID FOR 6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ASPIRIN INTOLE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2287440"/>
            <a:ext cx="82296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mmune reaction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ion of COX and increased production of LT-E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ry LT-E4 concentration 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lerance trigger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urrent viral infec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nchial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lergic rh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aphylactic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rtic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rum sick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aphylactoid purp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Lupus like sy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33520" y="274320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patocellular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rstitial nep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ntact derma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PIRIN TRIAS - bronchial asthma + aspirin intolerance + nasal polyp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539640" y="1052640"/>
            <a:ext cx="8194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539640" y="1844640"/>
            <a:ext cx="81471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ocation test (oral or inha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tests are not important for dg because it is a non-immune mechanism of intole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aspi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ugs that cause cross-reaction in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of aspirin in chronic urtic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food with additives - cross-intolerance, in asth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68360" y="907920"/>
            <a:ext cx="8218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OLERANCE TO IODINE CONTRAST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68360" y="1700280"/>
            <a:ext cx="8218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sensitivity to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iodine contrast a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ivided into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mediate hypersensitivity reaction (IHR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ch reactions occur within 1 h of ICM administration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R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n-immediate hypersensitivity reaction (NIHR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ccurs more than 1 h later. The latency of most NIHRs is 3 h to 2 days, and they usually resolve in one wee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pathophysiological explanations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of IH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tivation of mast cells and basophil</a:t>
            </a:r>
            <a:r>
              <a:rPr b="0" lang="sr-Latn-RS" sz="1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in addition to the release of histamine, tryptase, and other mediator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ivation and release of mediators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in IH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occu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hrough the IgE-mediated immune pathway and</a:t>
            </a:r>
            <a:r>
              <a:rPr b="0" lang="sr-Latn-R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-IgE pathways path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tivation of the complement systems, activation of the XII clotting system (leading to the production of bradykinin and conversion of L-arginine into nitric ox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immediate hypersensitivity reaction (NIHR) induced by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iodine contrast a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evoked by a T-cell mediated path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468360" y="2781360"/>
            <a:ext cx="820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idence of IHR and NIHR is about 0.5–3%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evere form of IHR is life-threatening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phylactic shock with hypotension and loss of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ciousness, which has a prevalence of 0.04–0.28%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00000" y="134136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OLERANCE TO IODINE CONTRAST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24000" y="191628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scosity and osmolality play a role in the development of reactions to contrast ag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gh-osmolality contrast agents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are ionic and have an osmolality 5</a:t>
            </a:r>
            <a:r>
              <a:rPr b="0" lang="sr-Latn-RS" sz="1800" spc="-1" strike="noStrike">
                <a:solidFill>
                  <a:srgbClr val="0070c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times</a:t>
            </a:r>
            <a:r>
              <a:rPr b="0" lang="sr-Latn-R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greater than biological fluids</a:t>
            </a:r>
            <a:r>
              <a:rPr b="0" lang="sr-Latn-R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nionic dimers have osmolality similar to blo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lasma and cerebrospinal fluid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they significantly reduce the frequency of adverse reactions</a:t>
            </a:r>
            <a:r>
              <a:rPr b="0" lang="sr-Latn-RS" sz="1800" spc="-1" strike="noStrike">
                <a:solidFill>
                  <a:srgbClr val="0070c0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ontrast </a:t>
            </a:r>
            <a:r>
              <a:rPr b="0" lang="sr-Latn-RS" sz="1800" spc="-1" strike="noStrike">
                <a:solidFill>
                  <a:srgbClr val="0070c0"/>
                </a:solidFill>
                <a:latin typeface="Arial"/>
              </a:rPr>
              <a:t>agent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611280" y="1197000"/>
            <a:ext cx="8229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ISK FACTORS </a:t>
            </a:r>
            <a:r>
              <a:rPr b="1" lang="sr-Latn-RS" sz="2800" spc="-1" strike="noStrike">
                <a:solidFill>
                  <a:srgbClr val="c00000"/>
                </a:solidFill>
                <a:latin typeface="Arial"/>
              </a:rPr>
              <a:t>FOR HYPERSENZITIVITY REACTIONS TO IODINE CONTRAST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tient age &gt;5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V system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idney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nditions associated with renovascular damage (diabetes mellitus, arterial hypertension,myeloma multiplex, hyperuricemia, dehyd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vious allergic reactions to different aller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nchial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vious reactions to iodine contrast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ACTIONS CAUSED BY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380880" y="17524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ho are not hypersen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ug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dose-toxic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wanted sid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HO ARE HYPERSEN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allergic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iosyncrasy -metabol. deficiency (lack of G-6-PDH hemolytic an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e reactions (participation of At or T 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990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NICAL PICTURE</a:t>
            </a:r>
            <a:r>
              <a:rPr b="1" lang="sr-Latn-RS" sz="2800" spc="-1" strike="noStrike">
                <a:solidFill>
                  <a:srgbClr val="c00000"/>
                </a:solidFill>
                <a:latin typeface="Arial"/>
              </a:rPr>
              <a:t> OF HYPERSENZITIVITY REACTIONS TO IODINE CONTRAST AG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50920" y="1916280"/>
            <a:ext cx="84358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phylactic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onchospa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hin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neralized urtic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phylactic sh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ardiopulmonary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lmonary 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usea, vo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cute kidney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onvul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24000" y="1209600"/>
          <a:ext cx="8640720" cy="5534280"/>
        </p:xfrm>
        <a:graphic>
          <a:graphicData uri="http://schemas.openxmlformats.org/drawingml/2006/table">
            <a:tbl>
              <a:tblPr/>
              <a:tblGrid>
                <a:gridCol w="982440"/>
                <a:gridCol w="3371760"/>
                <a:gridCol w="4286520"/>
              </a:tblGrid>
              <a:tr h="25884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gic-Like/Hypersensitiv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o-Tox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i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Limited urticaria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prurit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Limited nausea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vomiting limit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060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Cutaneous ede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Transient flushing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warmth/chi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60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Limited “itchy”/”scratchy” throa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Headache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/dizziness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nxiety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ltered tas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Nasal conges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ild hyperten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60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Sneezing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/conjunctivitis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/rhinorrhe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Vasovagal reaction that resolves spontaneousl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iffuse urticaria/prurit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tracted nausea/vomi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iffuse erythema, stable vital sig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Hypertensive urge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Facial edema without dyspne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solated chest pai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60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hroat tightness or hoarseness without dyspne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asovagal reaction that requires and is responsive to treat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60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Wheezing/</a:t>
                      </a:r>
                      <a:r>
                        <a:rPr b="0" lang="sr-Latn-R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ronchospasm, mild or no hypox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ve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ffuse edema, or facial edema with dyspne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asovagal reaction resistant to treat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5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ffuse erythema with hypoten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rhythm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aryngeal edema with stridor and/or hypox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vulsions, seizu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15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eezing/</a:t>
                      </a:r>
                      <a:r>
                        <a:rPr b="0" lang="sr-Latn-R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ronchospasm, significant hypox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ypertensive emerge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phylactic shock (hypotension + tachycardia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74"/>
          <p:cNvSpPr/>
          <p:nvPr/>
        </p:nvSpPr>
        <p:spPr>
          <a:xfrm>
            <a:off x="250920" y="802440"/>
            <a:ext cx="82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VERSE REAC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lated to the intravascular administration of ICM can be divided into two types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hypersensitivity (allergic-like) events and chemo-toxic events</a:t>
            </a:r>
            <a:r>
              <a:rPr b="1" lang="sr-Latn-R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RS" sz="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om the ACR Manual on Contrast Media and ESUR Guidelin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33520" y="105264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533520" y="23623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absolutely sure diagnostic t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test results are unrel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gative skin test does not mean saf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611280" y="2274840"/>
            <a:ext cx="806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hib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dministration of iodine contrast agents in patients with a clinical pictur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ryngospasm, anaphylactic shock, asthmatic attack</a:t>
            </a:r>
            <a:r>
              <a:rPr b="0" lang="sr-Latn-R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 acute kidney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lternative proced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gnetic resonance, ultra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) can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sometimes be us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s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consensus report for the prevention of generalize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reactions to iodine contrast agent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mmended</a:t>
            </a:r>
            <a:r>
              <a:rPr b="0" lang="sr-Latn-R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non-ionic iodine contrast agent</a:t>
            </a:r>
            <a:r>
              <a:rPr b="0" lang="sr-Latn-R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42920" y="1125360"/>
            <a:ext cx="6985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68360" y="981000"/>
            <a:ext cx="82184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50920" y="1676520"/>
            <a:ext cx="84358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spcBef>
                <a:spcPts val="601"/>
              </a:spcBef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It is approv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se in patients with 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mild forms of intolerance</a:t>
            </a:r>
            <a:r>
              <a:rPr b="0" lang="sr-Latn-RS" sz="2400" spc="-1" strike="noStrike">
                <a:solidFill>
                  <a:srgbClr val="00997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9973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9973"/>
                </a:solidFill>
                <a:latin typeface="Arial"/>
              </a:rPr>
              <a:t>use of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 premedication</a:t>
            </a:r>
            <a:r>
              <a:rPr b="0" lang="sr-Latn-RS" sz="2400" spc="-1" strike="noStrike">
                <a:solidFill>
                  <a:srgbClr val="009973"/>
                </a:solidFill>
                <a:latin typeface="Arial"/>
              </a:rPr>
              <a:t> in these cases is mandatory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spcBef>
                <a:spcPts val="601"/>
              </a:spcBef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odine contrast 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is approved in persons </a:t>
            </a:r>
            <a:r>
              <a:rPr b="0" lang="sr-Latn-RS" sz="2400" spc="-1" strike="noStrike">
                <a:solidFill>
                  <a:srgbClr val="009973"/>
                </a:solidFill>
                <a:latin typeface="Arial"/>
              </a:rPr>
              <a:t>who have only 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risk factors </a:t>
            </a:r>
            <a:r>
              <a:rPr b="0" lang="sr-Latn-RS" sz="2400" spc="-1" strike="noStrike">
                <a:solidFill>
                  <a:srgbClr val="009973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 no previous incid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se agent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us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premedication</a:t>
            </a:r>
            <a:r>
              <a:rPr b="0" lang="sr-Latn-RS" sz="2400" spc="-1" strike="noStrike">
                <a:solidFill>
                  <a:srgbClr val="009973"/>
                </a:solidFill>
                <a:latin typeface="Arial"/>
              </a:rPr>
              <a:t> in these cases is mand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spcBef>
                <a:spcPts val="601"/>
              </a:spcBef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68360" y="105264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50920" y="1628640"/>
            <a:ext cx="8435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</a:rPr>
              <a:t>Premed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Glucocorticoids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nisone 50 mg per os (13h, 7h and 1h before iodine contras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 Hydrocortisone iv: 200 mg iv. (1 h before iodine contrast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 Methylprednisolone per os: 32 mg per os (12h and 2h before iodine contr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Antihistamine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1 blocker (Diphenhydramine 50mg iv, im, per os), 1h before iodine contr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Do not prescrib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ß-blockers, MAO inhibitors and ACE inhibitors before administration of iodine contr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OLERANCE TO LOCAL ANESTHE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533520" y="243828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9973"/>
                </a:solidFill>
                <a:latin typeface="Arial"/>
              </a:rPr>
              <a:t>Allergic and pseudoallergic reactions are ra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appropriate reactions without release of mediators are common (toxic, sympathetic stimulation, vasovagal reacti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Group I anesthetic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benzoic esters (novocaine, benyocaine, chlorprocaine) cross-reactions within group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Group II anesthetic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mide structure (lidocaine, etidrocaine, dibucaine), no cross-reaction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appropriate toxic systemic reactions to local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0880" y="251460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0070c0"/>
                </a:solidFill>
                <a:latin typeface="Arial"/>
              </a:rPr>
              <a:t>Over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0070c0"/>
                </a:solidFill>
                <a:latin typeface="Arial"/>
              </a:rPr>
              <a:t>Too fast administration of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0070c0"/>
                </a:solidFill>
                <a:latin typeface="Arial"/>
              </a:rPr>
              <a:t>Intravenous anesthetic administr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NS: euphoria, restlessness, speech disorder, dizziness, vomiting, convulsions,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V: SVT, VT, cardiac ar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18108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24000" y="1268280"/>
            <a:ext cx="834516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Non-allergic reactions due to sympathetic stimul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anxiety, tremors, sweating, tachycardia, H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Non-allergic reactions due to parasympathetic stimul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hyperventilation, hyste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Pseudoallergic reactions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anaphylactoid, anaphylatox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Allergic reactions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mediated by IgE, IgM, Ig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395280" y="1268280"/>
            <a:ext cx="826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Arial"/>
              </a:rPr>
              <a:t>CLINICAL PICTURE OF HYPERSENZITIVE REACTIONS ON LOCAL ANEST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aphylactic reaction (urticaria, angioedema, bronchospasm, systemic anaphylax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ypersensitivity vasculitis (serum disease, anaphylactoid purpu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LASSIFICATION ACCORDING TO IMMUNE MECH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457200" y="2492280"/>
            <a:ext cx="82296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 - systemic anaphylax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rtic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nchial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lergic rhin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I - 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granulocyt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stitial nephritis (Methicillin, Phenytoi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80880" y="1905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ocation tests are rel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ctr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anesthetics from group 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11430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OLERANCE TO GENERAL ANESTHETICS and MYORELAX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11280" y="2852640"/>
            <a:ext cx="8305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seudoallergic reactions to general anesthetics and allergic reactions to muscle relaxan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 com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ifficult to distinguish the cause of the allergy (musorelaxant, anesthetic, rubber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la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lasma expand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with long-term surgical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RISK FACTO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95280" y="2287440"/>
            <a:ext cx="829152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nder-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incidents in general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pina bifida and frequent and extensive surgical interv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al asthma and atopic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IES TO OTHER MEDICINES AND FOOD ARE NOT A RISK 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CLINICAL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aphylactic reaction (urticaria, angioedema, bronchospasm, systemic ana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ose provocation tests are rel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fic IgE At (in case of allergic reaction to muscle relax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3488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f alternative anesthetics for general anesthesia and muscle relax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ypes of anesthesia (spinal, inhal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1835280" y="263700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NK YOU FOR YOUR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0720" y="1268280"/>
            <a:ext cx="833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ASSIFICATION ACCORDING TO IMMUNE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0720" y="2492280"/>
            <a:ext cx="82360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ype III 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serum sickness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enicillin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anaphylactoid purp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upus like sy-hydralazine, procainam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ype IV - contact 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erstitial pneumonitis- bleomycin, nitrofurantoin, gold salts (A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patocellular damage - NSAIDs,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ncephalomyelitis-virus vaccines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ACTORS OF SENSITIZATION RELATED TO TH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e (usually 20-40 ye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ender - fe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topic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companying diseases (infectious mononucleosis and CLL rash on Ampicillin, sarcoidosis - contact dermatitis, use of immunosuppressive drugs, greater possibility of anaphylactic rea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NSITIZATION FACTORS RELATED TO TH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04920" y="2209680"/>
            <a:ext cx="8610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apten molecules bind to plasma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tigenic determinants of drugs (minor, major, side cha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ymerization-standing dissolves on its own tem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tein impu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harmaceutical supp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ENSITIZATION FACTORS RELATED TO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g doses (large, underdosed do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uration of drug administration (long-term, repetition of short-term 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thod of administration of the drug (parenterally application of drug caused manifestations more quick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oss-sensitization (penicillin-cephalosporin, sulfonamides, hair dye, local anesthe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68360" y="105264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24000" y="1916280"/>
            <a:ext cx="8362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mnes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drugs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from drug exposure to allerg.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type of allergic reaction based on the clinical pi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IgE At against Ag determinants of drugs (RAST te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tests (prix test, only if RAST -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e provocation tests (only in case of type I reaction, if the skin test is negati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24-01-30T11:36:0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